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5F516-86F1-49F3-ADAE-CE231A90A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DFCE6-950A-48DB-872E-2E2C87FCF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1AC4A-9A86-43C0-A074-5084C8F00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8125F-C97D-40E9-A56A-C376D21BB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IMPORTANT BECAUSE YOU HAVE TO ORGANISE YOUR OWN TIME, KNOW WHAT RESOURCES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exible time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ing ow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entifying own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ting own ag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D34E0-42BA-4C71-86C1-62091EA1C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IMPORTANT BECAUSE YOU HAVE TO ORGANISE YOUR OWN TIME, KNOW WHAT RESOURCES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exible time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ing ow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entifying own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ting own ag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C78DC-E236-4EA3-9C7D-9C957BFBE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E0B77-B8F1-4D15-9EDE-5329BE84E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C51C1-7EE6-4D90-B130-206EC07A2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A51CD-8268-42C1-A62A-4C90E44BD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138BE-DA6E-4CB6-B275-1DDCBF095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B281D-85D1-49BA-9FE5-3D9C1A2E5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24CA6-DEAA-4569-A791-A2DD64DB5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6E8E3-6F25-4018-B65E-18831E427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EC97E-C20F-4800-B4C5-52BB02EB2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79200-6E74-4E46-9CF5-93D05764D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7D70-7ADC-4A37-836F-9204F40C6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511B-FA20-446F-BB4D-EA376BAFB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9F46-83A0-40B7-ADF3-E0005DBCE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EBF3-0701-472A-948D-A178EAF5B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433F-0824-436F-B046-1B6125E47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FCAD-09D9-49B8-B2D6-C845BE2D7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7FFA-AD51-4759-862B-963FB2797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33D5-074F-4E5C-831F-6B993841C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8E19-2493-4314-80BC-DB79511B7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83FE-12D9-463A-8F41-4D1925C9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DD68-DD6D-45ED-AFF2-BB47522C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F173-FDDA-49C3-B582-CBA22AA0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f9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A41C8-F83F-4B5F-BF5E-25CEF2C09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3635280" y="1197000"/>
            <a:ext cx="4824360" cy="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9"/>
          <p:cNvSpPr/>
          <p:nvPr/>
        </p:nvSpPr>
        <p:spPr>
          <a:xfrm>
            <a:off x="6372360" y="1341360"/>
            <a:ext cx="2087280" cy="0"/>
          </a:xfrm>
          <a:prstGeom prst="line">
            <a:avLst/>
          </a:prstGeom>
          <a:ln w="316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udesign.com/mnems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br>
              <a:rPr sz="44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anaging your own lear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3132000" y="3933720"/>
            <a:ext cx="2808360" cy="1600200"/>
            <a:chOff x="3132000" y="3933720"/>
            <a:chExt cx="2808360" cy="1600200"/>
          </a:xfrm>
        </p:grpSpPr>
        <p:pic>
          <p:nvPicPr>
            <p:cNvPr id="53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393372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6"/>
            <p:cNvSpPr/>
            <p:nvPr/>
          </p:nvSpPr>
          <p:spPr>
            <a:xfrm>
              <a:off x="3924000" y="458136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AutoShape 7"/>
            <p:cNvSpPr/>
            <p:nvPr/>
          </p:nvSpPr>
          <p:spPr>
            <a:xfrm rot="16200000">
              <a:off x="5149080" y="465372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dvice for </a:t>
            </a:r>
            <a:r>
              <a:rPr b="1" lang="en-GB" sz="4200" spc="-1" strike="noStrike">
                <a:solidFill>
                  <a:srgbClr val="3333cc"/>
                </a:solidFill>
                <a:latin typeface="Arial"/>
              </a:rPr>
              <a:t>kinaesthetic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learn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ke frequent study brea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ve around to learn new th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g read while on an exercise b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y model a difficult/new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ff"/>
                </a:solidFill>
                <a:latin typeface="Arial"/>
              </a:rPr>
              <a:t>Highlight reading with bright col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 posters and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kim read before reading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touch"/>
          <p:cNvPicPr/>
          <p:nvPr/>
        </p:nvPicPr>
        <p:blipFill>
          <a:blip r:embed="rId1"/>
          <a:stretch/>
        </p:blipFill>
        <p:spPr>
          <a:xfrm>
            <a:off x="7164360" y="4508640"/>
            <a:ext cx="16207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pendent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re independent learne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j0295281"/>
          <p:cNvPicPr/>
          <p:nvPr/>
        </p:nvPicPr>
        <p:blipFill>
          <a:blip r:embed="rId1"/>
          <a:stretch/>
        </p:blipFill>
        <p:spPr>
          <a:xfrm>
            <a:off x="6732720" y="2060640"/>
            <a:ext cx="1815840" cy="1805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j0295294"/>
          <p:cNvPicPr/>
          <p:nvPr/>
        </p:nvPicPr>
        <p:blipFill>
          <a:blip r:embed="rId2"/>
          <a:stretch/>
        </p:blipFill>
        <p:spPr>
          <a:xfrm>
            <a:off x="7020000" y="4076640"/>
            <a:ext cx="1350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pendent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re independent learne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t their own learning 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where to get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how to us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’t moan if they have to do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wor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motiv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when to q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j0295281"/>
          <p:cNvPicPr/>
          <p:nvPr/>
        </p:nvPicPr>
        <p:blipFill>
          <a:blip r:embed="rId1"/>
          <a:stretch/>
        </p:blipFill>
        <p:spPr>
          <a:xfrm>
            <a:off x="6948360" y="2060640"/>
            <a:ext cx="1816200" cy="1805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j0295294"/>
          <p:cNvPicPr/>
          <p:nvPr/>
        </p:nvPicPr>
        <p:blipFill>
          <a:blip r:embed="rId2"/>
          <a:stretch/>
        </p:blipFill>
        <p:spPr>
          <a:xfrm>
            <a:off x="7236000" y="4149720"/>
            <a:ext cx="1350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e you an independent learn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nds up…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tivation to learn        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ing learning resources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ime management        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lec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4788000" y="1052640"/>
            <a:ext cx="4176720" cy="2520720"/>
          </a:xfrm>
          <a:prstGeom prst="irregularSeal2">
            <a:avLst/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5508720" y="2060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handout Activ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elieve in yourse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http://www.des.emory.edu/mfp/se-ghandi.jpg"/>
          <p:cNvPicPr/>
          <p:nvPr/>
        </p:nvPicPr>
        <p:blipFill>
          <a:blip r:embed="rId1"/>
          <a:stretch/>
        </p:blipFill>
        <p:spPr>
          <a:xfrm>
            <a:off x="179280" y="1916280"/>
            <a:ext cx="2089080" cy="2303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2411280" y="1773360"/>
          <a:ext cx="6121440" cy="2651040"/>
        </p:xfrm>
        <a:graphic>
          <a:graphicData uri="http://schemas.openxmlformats.org/drawingml/2006/table">
            <a:tbl>
              <a:tblPr/>
              <a:tblGrid>
                <a:gridCol w="6121440"/>
              </a:tblGrid>
              <a:tr h="265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4000"/>
                          </a:solidFill>
                          <a:latin typeface="Verdana"/>
                          <a:ea typeface="Times New Roman"/>
                        </a:rPr>
                        <a:t>"If I have the belief that I can do it, I shall surely acquire the capacity to do it even if I may not have it at the beginning."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4000"/>
                          </a:solidFill>
                          <a:latin typeface="Verdana"/>
                          <a:ea typeface="Times New Roman"/>
                        </a:rPr>
                        <a:t>~ Mahatma Gandhi ~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8aa"/>
                    </a:solidFill>
                  </a:tcPr>
                </a:tc>
              </a:tr>
            </a:tbl>
          </a:graphicData>
        </a:graphic>
      </p:graphicFrame>
      <p:sp>
        <p:nvSpPr>
          <p:cNvPr id="120" name="Text Box 11"/>
          <p:cNvSpPr/>
          <p:nvPr/>
        </p:nvSpPr>
        <p:spPr>
          <a:xfrm>
            <a:off x="1187280" y="5661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ver say “ I can’t do that”  always say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“I can’t do that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ye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ims of this s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why these are important for you to manage your own learning and become a proficient lear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know yourself as a learn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 you an independent learn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believe in yourself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learning is an important sk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arning is a life sk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half life of knowledge is sh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5% of drugs in use in 1978 were unheard of in 19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chanical engineers’ knowledge 7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ftware developers 2 – 3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felong learning is not an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ployers want motivated graduates who continue to lea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…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ne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yourself as a lear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 motiv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 responsible for your own lear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lect on your progr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o you know your learning styl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eye1"/>
          <p:cNvPicPr/>
          <p:nvPr/>
        </p:nvPicPr>
        <p:blipFill>
          <a:blip r:embed="rId1"/>
          <a:stretch/>
        </p:blipFill>
        <p:spPr>
          <a:xfrm>
            <a:off x="900000" y="3213000"/>
            <a:ext cx="2159280" cy="1641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ear1"/>
          <p:cNvPicPr/>
          <p:nvPr/>
        </p:nvPicPr>
        <p:blipFill>
          <a:blip r:embed="rId2"/>
          <a:stretch/>
        </p:blipFill>
        <p:spPr>
          <a:xfrm>
            <a:off x="3708360" y="2781360"/>
            <a:ext cx="1835280" cy="2592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touch"/>
          <p:cNvPicPr/>
          <p:nvPr/>
        </p:nvPicPr>
        <p:blipFill>
          <a:blip r:embed="rId3"/>
          <a:stretch/>
        </p:blipFill>
        <p:spPr>
          <a:xfrm>
            <a:off x="6156360" y="2781360"/>
            <a:ext cx="19540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how of h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20"/>
          <p:cNvGrpSpPr/>
          <p:nvPr/>
        </p:nvGrpSpPr>
        <p:grpSpPr>
          <a:xfrm>
            <a:off x="1116000" y="2997360"/>
            <a:ext cx="6480360" cy="360360"/>
            <a:chOff x="1116000" y="2997360"/>
            <a:chExt cx="6480360" cy="360360"/>
          </a:xfrm>
        </p:grpSpPr>
        <p:sp>
          <p:nvSpPr>
            <p:cNvPr id="68" name="Line 5"/>
            <p:cNvSpPr/>
            <p:nvPr/>
          </p:nvSpPr>
          <p:spPr>
            <a:xfrm>
              <a:off x="1116000" y="3213000"/>
              <a:ext cx="648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7"/>
            <p:cNvSpPr/>
            <p:nvPr/>
          </p:nvSpPr>
          <p:spPr>
            <a:xfrm>
              <a:off x="1116000" y="299736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9"/>
            <p:cNvSpPr/>
            <p:nvPr/>
          </p:nvSpPr>
          <p:spPr>
            <a:xfrm>
              <a:off x="7596360" y="299736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1"/>
            <p:cNvSpPr/>
            <p:nvPr/>
          </p:nvSpPr>
          <p:spPr>
            <a:xfrm>
              <a:off x="270036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2"/>
            <p:cNvSpPr/>
            <p:nvPr/>
          </p:nvSpPr>
          <p:spPr>
            <a:xfrm>
              <a:off x="457200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13"/>
            <p:cNvSpPr/>
            <p:nvPr/>
          </p:nvSpPr>
          <p:spPr>
            <a:xfrm>
              <a:off x="622764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9"/>
          <p:cNvGrpSpPr/>
          <p:nvPr/>
        </p:nvGrpSpPr>
        <p:grpSpPr>
          <a:xfrm>
            <a:off x="1116000" y="5373720"/>
            <a:ext cx="6480360" cy="360360"/>
            <a:chOff x="1116000" y="5373720"/>
            <a:chExt cx="6480360" cy="360360"/>
          </a:xfrm>
        </p:grpSpPr>
        <p:sp>
          <p:nvSpPr>
            <p:cNvPr id="75" name="Line 6"/>
            <p:cNvSpPr/>
            <p:nvPr/>
          </p:nvSpPr>
          <p:spPr>
            <a:xfrm>
              <a:off x="1116000" y="5589720"/>
              <a:ext cx="648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8"/>
            <p:cNvSpPr/>
            <p:nvPr/>
          </p:nvSpPr>
          <p:spPr>
            <a:xfrm>
              <a:off x="1116000" y="537372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0"/>
            <p:cNvSpPr/>
            <p:nvPr/>
          </p:nvSpPr>
          <p:spPr>
            <a:xfrm>
              <a:off x="7596360" y="537372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4"/>
            <p:cNvSpPr/>
            <p:nvPr/>
          </p:nvSpPr>
          <p:spPr>
            <a:xfrm>
              <a:off x="270036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5"/>
            <p:cNvSpPr/>
            <p:nvPr/>
          </p:nvSpPr>
          <p:spPr>
            <a:xfrm>
              <a:off x="450072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6"/>
            <p:cNvSpPr/>
            <p:nvPr/>
          </p:nvSpPr>
          <p:spPr>
            <a:xfrm>
              <a:off x="622764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Text Box 17"/>
          <p:cNvSpPr/>
          <p:nvPr/>
        </p:nvSpPr>
        <p:spPr>
          <a:xfrm>
            <a:off x="395280" y="213372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8"/>
          <p:cNvSpPr/>
          <p:nvPr/>
        </p:nvSpPr>
        <p:spPr>
          <a:xfrm>
            <a:off x="7020000" y="220500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1"/>
          <p:cNvSpPr/>
          <p:nvPr/>
        </p:nvSpPr>
        <p:spPr>
          <a:xfrm>
            <a:off x="539640" y="47912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is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2"/>
          <p:cNvSpPr/>
          <p:nvPr/>
        </p:nvSpPr>
        <p:spPr>
          <a:xfrm>
            <a:off x="7162920" y="479124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ud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now your learning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4"/>
          <p:cNvGrpSpPr/>
          <p:nvPr/>
        </p:nvGrpSpPr>
        <p:grpSpPr>
          <a:xfrm>
            <a:off x="468360" y="1989000"/>
            <a:ext cx="7704000" cy="1191240"/>
            <a:chOff x="468360" y="1989000"/>
            <a:chExt cx="7704000" cy="1191240"/>
          </a:xfrm>
        </p:grpSpPr>
        <p:sp>
          <p:nvSpPr>
            <p:cNvPr id="87" name="Text Box 5"/>
            <p:cNvSpPr/>
            <p:nvPr/>
          </p:nvSpPr>
          <p:spPr>
            <a:xfrm>
              <a:off x="1692360" y="227664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V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isu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Picture 6" descr="eye1"/>
            <p:cNvPicPr/>
            <p:nvPr/>
          </p:nvPicPr>
          <p:blipFill>
            <a:blip r:embed="rId1"/>
            <a:stretch/>
          </p:blipFill>
          <p:spPr>
            <a:xfrm>
              <a:off x="468360" y="2133720"/>
              <a:ext cx="1190520" cy="90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7"/>
            <p:cNvSpPr/>
            <p:nvPr/>
          </p:nvSpPr>
          <p:spPr>
            <a:xfrm>
              <a:off x="3203640" y="1989000"/>
              <a:ext cx="4968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seeing and observing things. You like demonstrations, displays, handouts &amp; most visual materials. You use pictures and diagram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8"/>
          <p:cNvGrpSpPr/>
          <p:nvPr/>
        </p:nvGrpSpPr>
        <p:grpSpPr>
          <a:xfrm>
            <a:off x="684360" y="3213000"/>
            <a:ext cx="7488000" cy="1305000"/>
            <a:chOff x="684360" y="3213000"/>
            <a:chExt cx="7488000" cy="1305000"/>
          </a:xfrm>
        </p:grpSpPr>
        <p:sp>
          <p:nvSpPr>
            <p:cNvPr id="91" name="Text Box 9"/>
            <p:cNvSpPr/>
            <p:nvPr/>
          </p:nvSpPr>
          <p:spPr>
            <a:xfrm>
              <a:off x="1763640" y="357336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uditor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10" descr="ear1"/>
            <p:cNvPicPr/>
            <p:nvPr/>
          </p:nvPicPr>
          <p:blipFill>
            <a:blip r:embed="rId2"/>
            <a:stretch/>
          </p:blipFill>
          <p:spPr>
            <a:xfrm>
              <a:off x="684360" y="3213000"/>
              <a:ext cx="92376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1"/>
            <p:cNvSpPr/>
            <p:nvPr/>
          </p:nvSpPr>
          <p:spPr>
            <a:xfrm>
              <a:off x="3203640" y="3573360"/>
              <a:ext cx="496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listening.  You may talk to yourself when revising, put things on a tape et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16"/>
          <p:cNvGrpSpPr/>
          <p:nvPr/>
        </p:nvGrpSpPr>
        <p:grpSpPr>
          <a:xfrm>
            <a:off x="684360" y="4797360"/>
            <a:ext cx="7619400" cy="1564560"/>
            <a:chOff x="684360" y="4797360"/>
            <a:chExt cx="7619400" cy="1564560"/>
          </a:xfrm>
        </p:grpSpPr>
        <p:sp>
          <p:nvSpPr>
            <p:cNvPr id="95" name="Text Box 17"/>
            <p:cNvSpPr/>
            <p:nvPr/>
          </p:nvSpPr>
          <p:spPr>
            <a:xfrm>
              <a:off x="1750680" y="5013360"/>
              <a:ext cx="22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K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inaestheti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Picture 18" descr="touch"/>
            <p:cNvPicPr/>
            <p:nvPr/>
          </p:nvPicPr>
          <p:blipFill>
            <a:blip r:embed="rId3"/>
            <a:stretch/>
          </p:blipFill>
          <p:spPr>
            <a:xfrm>
              <a:off x="684360" y="4797360"/>
              <a:ext cx="923400" cy="11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19"/>
            <p:cNvSpPr/>
            <p:nvPr/>
          </p:nvSpPr>
          <p:spPr>
            <a:xfrm>
              <a:off x="3335040" y="5445000"/>
              <a:ext cx="496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physical experience, touching, feeling, holding, doing practicals – hands on experienc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visual learn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icipate frequently in discussions/deb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e speeches and 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speech recognition software for your 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agon Naturally Speaking or Via V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a dictaph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eate musical jingles and mnemonics to aid mem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udesign.com/mnem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 in a quiet area as you ar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tracted by no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ear1"/>
          <p:cNvPicPr/>
          <p:nvPr/>
        </p:nvPicPr>
        <p:blipFill>
          <a:blip r:embed="rId2"/>
          <a:stretch/>
        </p:blipFill>
        <p:spPr>
          <a:xfrm>
            <a:off x="7236000" y="4797360"/>
            <a:ext cx="1441440" cy="1727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dvice for </a:t>
            </a:r>
            <a:r>
              <a:rPr b="1" lang="en-GB" sz="4600" spc="-1" strike="noStrike">
                <a:solidFill>
                  <a:srgbClr val="3333cc"/>
                </a:solidFill>
                <a:latin typeface="Arial"/>
              </a:rPr>
              <a:t>auditory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5:35Z</dcterms:modified>
  <cp:revision>23</cp:revision>
  <dc:subject/>
  <dc:title>Getting started in HE</dc:title>
</cp:coreProperties>
</file>