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A0EC-FEA2-4568-89C6-B067FC7A7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6528-ACD6-4FF4-A089-6BBD1B5D0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485E-FB80-478B-8669-88F4683D0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uld be a DURING  LECTURE and POST LECTURE phase to your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would like to see a note taking system in your portfol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as.calpoly.edu/asc/ssl/notetaking.syste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D58B-C7C9-4F27-B90D-DF5062DF7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DF33-DBE1-4369-A5F0-158AC64A4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C676-B6A7-405B-8B4D-CBBFE4FD0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handout e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FBB0-DE4F-402C-A086-D9524FFD7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1457-E888-4CA5-A17F-F6095AFD1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D6DC-DFEB-47EC-82D5-73DB6A7B8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948A-EA93-4D57-9956-CAAEB3E8C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’t go into detail here – just get them to th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ld talk about the first two thoug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7EE8-B463-4AE0-82E1-10A4A880D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75DC-B2F0-4801-B0DF-B449CC15D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0317-0259-43DA-89ED-90E3789A0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15A9-00CF-4E77-A13E-1960DB0CB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71E5-248A-499B-9F99-CCE415A57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39B6-1BDA-49AC-8F58-739B7822D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BEEB-6BF3-43EC-92F8-989E5F557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stening, thinking, taking notes, asking yourself questions, anticipating what could come n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ising:  sometimes you can’t get everything word for word, so at some point you need to summarise what was s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have difficulty listening, notetaking and summarising – not good at multi tas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you don’t take notes, you become inactive, disinterested and your mind starts to wa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0A46-EB49-47A4-8BBA-A37483679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4915-6315-4FC6-9FA6-404294F6D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C716-216D-436F-A9FA-4DA7D7EE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277F-0A13-4BAA-95A2-5E88AC765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F826-DB89-45B7-94E7-88A0EBEBC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7952-F6F2-4A91-8396-A63F711C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440A-E2B3-423F-9D8C-EBC98D52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EFCB-25ED-40FC-AF58-88DB8B76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E427-406E-41C7-B718-9D498BAA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99A4-5E15-40C3-9D34-2620B664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037C-CEFD-435A-9062-3920F251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2735-FE31-4005-B221-8368BA07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4B39-16D9-476C-A3D5-594677C9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0A1F-A1FC-47DB-ADAE-3D4CCAB71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as.calpoly.edu/asc/ssl/notetaking.systems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as.calpoly.edu/asc/ssl/notetaking.system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quotedb.com/authors/confucius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280" y="292536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the most out of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50520" cy="4833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>
            <a:hlinkClick r:id="rId2"/>
          </p:cNvPr>
          <p:cNvSpPr/>
          <p:nvPr/>
        </p:nvSpPr>
        <p:spPr>
          <a:xfrm>
            <a:off x="1332000" y="60213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124000" y="1341360"/>
            <a:ext cx="5256360" cy="43927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124000" y="494172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635280" y="1844640"/>
            <a:ext cx="0" cy="309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284720" y="2565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 taking area during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2124000" y="184464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411280" y="141300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cturer/title/date/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2268360" y="1916280"/>
            <a:ext cx="15829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Post lecture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inf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mpt questions relating to lecture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2916360" y="5013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mmary of key points, follow up, unclear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476360" y="40464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Cornell Note ta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>
            <a:hlinkClick r:id="rId1"/>
          </p:cNvPr>
          <p:cNvSpPr/>
          <p:nvPr/>
        </p:nvSpPr>
        <p:spPr>
          <a:xfrm>
            <a:off x="217440" y="602136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Other systems: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Wake u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Voice changes, the spe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lows the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Leaves a g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peaks lou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en for 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here are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three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reasons w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e al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First...Second... Third....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m cl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nd most important,...."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 major development...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6"/>
          <p:cNvGrpSpPr/>
          <p:nvPr/>
        </p:nvGrpSpPr>
        <p:grpSpPr>
          <a:xfrm>
            <a:off x="4716360" y="2492280"/>
            <a:ext cx="4248360" cy="3600360"/>
            <a:chOff x="4716360" y="2492280"/>
            <a:chExt cx="4248360" cy="3600360"/>
          </a:xfrm>
        </p:grpSpPr>
        <p:sp>
          <p:nvSpPr>
            <p:cNvPr id="92" name="AutoShape 4"/>
            <p:cNvSpPr/>
            <p:nvPr/>
          </p:nvSpPr>
          <p:spPr>
            <a:xfrm>
              <a:off x="4716360" y="2492280"/>
              <a:ext cx="4248360" cy="3600360"/>
            </a:xfrm>
            <a:custGeom>
              <a:avLst/>
              <a:gdLst>
                <a:gd name="textAreaLeft" fmla="*/ 1312920 w 4248360"/>
                <a:gd name="textAreaRight" fmla="*/ 2935440 w 4248360"/>
                <a:gd name="textAreaTop" fmla="*/ 1374840 h 3600360"/>
                <a:gd name="textAreaBottom" fmla="*/ 2751120 h 3600360"/>
              </a:gdLst>
              <a:ahLst/>
              <a:rect l="textAreaLeft" t="textAreaTop" r="textAreaRight" b="textAreaBottom"/>
              <a:pathLst>
                <a:path w="2676" h="2268">
                  <a:moveTo>
                    <a:pt x="0" y="866"/>
                  </a:moveTo>
                  <a:lnTo>
                    <a:pt x="1022" y="866"/>
                  </a:lnTo>
                  <a:lnTo>
                    <a:pt x="1338" y="0"/>
                  </a:lnTo>
                  <a:lnTo>
                    <a:pt x="1654" y="866"/>
                  </a:lnTo>
                  <a:lnTo>
                    <a:pt x="2676" y="866"/>
                  </a:lnTo>
                  <a:lnTo>
                    <a:pt x="1849" y="1402"/>
                  </a:lnTo>
                  <a:lnTo>
                    <a:pt x="2165" y="2268"/>
                  </a:lnTo>
                  <a:lnTo>
                    <a:pt x="1338" y="1733"/>
                  </a:lnTo>
                  <a:lnTo>
                    <a:pt x="511" y="2268"/>
                  </a:lnTo>
                  <a:lnTo>
                    <a:pt x="827" y="140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5"/>
            <p:cNvSpPr/>
            <p:nvPr/>
          </p:nvSpPr>
          <p:spPr>
            <a:xfrm>
              <a:off x="5940360" y="4147920"/>
              <a:ext cx="17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e  hand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7"/>
          <p:cNvSpPr/>
          <p:nvPr/>
        </p:nvSpPr>
        <p:spPr>
          <a:xfrm>
            <a:off x="4500720" y="623736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ignals are ignored by poor liste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Engage your brai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ritical listening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ring a lectu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y has it been inclu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ow does it link to the previous info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Is it essential or an exa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are the key po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is the main point of the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where understanding becomes diffic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284720" y="6093000"/>
            <a:ext cx="4464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hances LEARNING DURING a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116000" y="2349360"/>
            <a:ext cx="653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w listen and take not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3348000" y="3645000"/>
            <a:ext cx="3888000" cy="2448000"/>
          </a:xfrm>
          <a:custGeom>
            <a:avLst/>
            <a:gdLst>
              <a:gd name="textAreaLeft" fmla="*/ 1201320 w 3888000"/>
              <a:gd name="textAreaRight" fmla="*/ 2686680 w 3888000"/>
              <a:gd name="textAreaTop" fmla="*/ 934920 h 2448000"/>
              <a:gd name="textAreaBottom" fmla="*/ 1870200 h 2448000"/>
            </a:gdLst>
            <a:ahLst/>
            <a:rect l="textAreaLeft" t="textAreaTop" r="textAreaRight" b="textAreaBottom"/>
            <a:pathLst>
              <a:path w="3887787" h="2447925">
                <a:moveTo>
                  <a:pt x="4" y="935022"/>
                </a:moveTo>
                <a:lnTo>
                  <a:pt x="1485011" y="935028"/>
                </a:lnTo>
                <a:lnTo>
                  <a:pt x="1943894" y="0"/>
                </a:lnTo>
                <a:lnTo>
                  <a:pt x="2402776" y="935028"/>
                </a:lnTo>
                <a:lnTo>
                  <a:pt x="3887783" y="935022"/>
                </a:lnTo>
                <a:lnTo>
                  <a:pt x="2686382" y="1512893"/>
                </a:lnTo>
                <a:lnTo>
                  <a:pt x="3145287" y="2447917"/>
                </a:lnTo>
                <a:lnTo>
                  <a:pt x="1943894" y="1870035"/>
                </a:lnTo>
                <a:lnTo>
                  <a:pt x="742500" y="2447917"/>
                </a:lnTo>
                <a:lnTo>
                  <a:pt x="1201405" y="1512893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500720" y="4724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 Activit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4978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116000" y="3141720"/>
            <a:ext cx="653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You tell me...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Pre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 your last set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 given by t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Be active during the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signal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key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ing critically about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Reflect on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lect on notes, follow ups, summ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 to s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you do in lectures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you intend to im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y out note taking using a method and reflect how it went (good or b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evidence of how you prefer to take notes – and 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me thought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lec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your fellow students in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do anything in preparation for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during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post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turbinegen"/>
          <p:cNvPicPr/>
          <p:nvPr/>
        </p:nvPicPr>
        <p:blipFill>
          <a:blip r:embed="rId1"/>
          <a:stretch/>
        </p:blipFill>
        <p:spPr>
          <a:xfrm>
            <a:off x="2143080" y="357120"/>
            <a:ext cx="4857840" cy="56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200px-E-66_Egeln_feb2005"/>
          <p:cNvPicPr/>
          <p:nvPr/>
        </p:nvPicPr>
        <p:blipFill>
          <a:blip r:embed="rId1"/>
          <a:stretch/>
        </p:blipFill>
        <p:spPr>
          <a:xfrm>
            <a:off x="971640" y="1989000"/>
            <a:ext cx="1904760" cy="25434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826920" y="472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rizont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Fig. 1: A Darrieus wind turbine once used to generate electricity on the Magdalen Islands"/>
          <p:cNvPicPr/>
          <p:nvPr/>
        </p:nvPicPr>
        <p:blipFill>
          <a:blip r:embed="rId2"/>
          <a:stretch/>
        </p:blipFill>
        <p:spPr>
          <a:xfrm>
            <a:off x="5435640" y="2022480"/>
            <a:ext cx="1714320" cy="24861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5292720" y="4581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tic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Confuci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1360"/>
            <a:ext cx="2792520" cy="3673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3492360" y="2457720"/>
            <a:ext cx="51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I hear and I forget. I see and I remember. I do and I understand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187280" y="5300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uc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708360" y="414972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In lectures </a:t>
            </a:r>
            <a:r>
              <a:rPr b="0" lang="en-GB" sz="2400" spc="-1" strike="noStrike" u="sng">
                <a:solidFill>
                  <a:srgbClr val="0066ff"/>
                </a:solidFill>
                <a:uFillTx/>
                <a:latin typeface="Arial"/>
              </a:rPr>
              <a:t>doing</a:t>
            </a: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 is:  thinking, summarising, 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 you expect to get out of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206960"/>
        </p:xfrm>
        <a:graphic>
          <a:graphicData uri="http://schemas.openxmlformats.org/drawingml/2006/table">
            <a:tbl>
              <a:tblPr/>
              <a:tblGrid>
                <a:gridCol w="6202440"/>
                <a:gridCol w="2027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The lecturer should teach me all I need to know on that subjec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/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go to a lecture to get all the information I need for an assign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I shouldn’t have to take notes because the information is on the handou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on’t need to think in lectures, just listen carefull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paring for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you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Check the lecture topic beforeh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Start to think about the top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ry to think what it could invol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Do a little reading ar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Use notes given by the tuto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ust turn 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 you do IN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rrive late  -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en with my head on the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nd text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t to my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alk about last night dur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skills are involved when listening to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do you think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4643280" y="4653000"/>
            <a:ext cx="3888000" cy="1582560"/>
            <a:chOff x="4643280" y="4653000"/>
            <a:chExt cx="3888000" cy="1582560"/>
          </a:xfrm>
        </p:grpSpPr>
        <p:sp>
          <p:nvSpPr>
            <p:cNvPr id="69" name="AutoShape 5"/>
            <p:cNvSpPr/>
            <p:nvPr/>
          </p:nvSpPr>
          <p:spPr>
            <a:xfrm>
              <a:off x="4643280" y="4653000"/>
              <a:ext cx="3888000" cy="158256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6"/>
            <p:cNvSpPr/>
            <p:nvPr/>
          </p:nvSpPr>
          <p:spPr>
            <a:xfrm>
              <a:off x="5867280" y="5300640"/>
              <a:ext cx="11527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ctivity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skills are invol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t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ising (note ta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al (on paper &amp; ment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-tas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o you have a system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6:59Z</dcterms:modified>
  <cp:revision>49</cp:revision>
  <dc:subject/>
  <dc:title>Getting started in HE</dc:title>
</cp:coreProperties>
</file>