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A3052-7EB6-44C5-A429-32D70A42A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92C85-C10A-4E3B-833D-3C46BB162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th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if since because since while when as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ord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was found that the material tested had the precise properties needed for the experi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hough the material tested had the correct heat resistant properties and the strength needed, it was not stable at very low tempera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4B19-3B07-4242-BF75-A26D36A71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0C19-63D9-4EAE-B6BE-EEC729526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FDDE-B7D6-4424-8738-059961AB6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15B8-D8D3-4561-866D-A7E2D4EDD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87CB-8748-4072-AD42-0A27A81B0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B925-E2CD-455E-A756-F61F6BD68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EFF6-A191-4137-A97C-0C107E9F6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E3AB-1292-4F5E-9294-95895A09C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7DE6-66E0-4327-92EE-1F8C995E5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91F7-937F-4DC7-AD0F-E54F5627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F02A-D26C-40B0-82BE-44603655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8934-5C89-4B47-BD30-BAC84144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DD297-B528-434D-A05B-45B8E7BF3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visuwords.com/?word=clause" TargetMode="External"/><Relationship Id="rId2" Type="http://schemas.openxmlformats.org/officeDocument/2006/relationships/hyperlink" Target="http://www.visuwords.com/?word=clause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Getting started in H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640" y="3141360"/>
            <a:ext cx="7632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ical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2987640" y="4437000"/>
            <a:ext cx="2808360" cy="1600200"/>
            <a:chOff x="298764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298764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77964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00472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this experiment abou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will it show m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 anyone else done this experimen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method did I u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re there any proble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id I find o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o the results tell 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3"/>
          <p:cNvGrpSpPr/>
          <p:nvPr/>
        </p:nvGrpSpPr>
        <p:grpSpPr>
          <a:xfrm>
            <a:off x="930240" y="1341360"/>
            <a:ext cx="7096320" cy="457200"/>
            <a:chOff x="930240" y="1341360"/>
            <a:chExt cx="7096320" cy="457200"/>
          </a:xfrm>
        </p:grpSpPr>
        <p:sp>
          <p:nvSpPr>
            <p:cNvPr id="147" name="Rectangle 5"/>
            <p:cNvSpPr/>
            <p:nvPr/>
          </p:nvSpPr>
          <p:spPr>
            <a:xfrm>
              <a:off x="930240" y="1341360"/>
              <a:ext cx="70963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6"/>
            <p:cNvSpPr/>
            <p:nvPr/>
          </p:nvSpPr>
          <p:spPr>
            <a:xfrm>
              <a:off x="1042920" y="1359720"/>
              <a:ext cx="684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3300"/>
                  </a:solidFill>
                  <a:latin typeface="Arial"/>
                </a:rPr>
                <a:t>  </a:t>
              </a:r>
              <a:r>
                <a:rPr b="1" lang="en-GB" sz="2000" spc="-1" strike="noStrike">
                  <a:solidFill>
                    <a:srgbClr val="ff3300"/>
                  </a:solidFill>
                  <a:latin typeface="Arial"/>
                </a:rPr>
                <a:t>THINK     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LAN         WRITE          REVISE             ED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AutoShape 11"/>
          <p:cNvSpPr/>
          <p:nvPr/>
        </p:nvSpPr>
        <p:spPr>
          <a:xfrm>
            <a:off x="5292720" y="3716280"/>
            <a:ext cx="3673440" cy="2737080"/>
          </a:xfrm>
          <a:custGeom>
            <a:avLst/>
            <a:gdLst>
              <a:gd name="textAreaLeft" fmla="*/ 1135080 w 3673440"/>
              <a:gd name="textAreaRight" fmla="*/ 2538360 w 3673440"/>
              <a:gd name="textAreaTop" fmla="*/ 1045440 h 2737080"/>
              <a:gd name="textAreaBottom" fmla="*/ 2090880 h 2737080"/>
            </a:gdLst>
            <a:ahLst/>
            <a:rect l="textAreaLeft" t="textAreaTop" r="textAreaRight" b="textAreaBottom"/>
            <a:pathLst>
              <a:path w="3673475" h="2736850">
                <a:moveTo>
                  <a:pt x="4" y="1045381"/>
                </a:moveTo>
                <a:lnTo>
                  <a:pt x="1403150" y="1045388"/>
                </a:lnTo>
                <a:lnTo>
                  <a:pt x="1836738" y="0"/>
                </a:lnTo>
                <a:lnTo>
                  <a:pt x="2270325" y="1045388"/>
                </a:lnTo>
                <a:lnTo>
                  <a:pt x="3673471" y="1045381"/>
                </a:lnTo>
                <a:lnTo>
                  <a:pt x="2538297" y="1691458"/>
                </a:lnTo>
                <a:lnTo>
                  <a:pt x="2971905" y="2736841"/>
                </a:lnTo>
                <a:lnTo>
                  <a:pt x="1836738" y="2090753"/>
                </a:lnTo>
                <a:lnTo>
                  <a:pt x="701570" y="2736841"/>
                </a:lnTo>
                <a:lnTo>
                  <a:pt x="1135178" y="1691458"/>
                </a:lnTo>
                <a:close/>
              </a:path>
            </a:pathLst>
          </a:custGeom>
          <a:solidFill>
            <a:srgbClr val="ffcc99">
              <a:alpha val="2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6516720" y="486900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ke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eck notes from th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ph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down the headings for your re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 to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utline a few sentence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ach section in your re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ntence outlines help you get sta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isual learners could use a mindmap  (Inspi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your results from your lab noteboo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1273320" y="1341360"/>
            <a:ext cx="6769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1255320" y="1329120"/>
            <a:ext cx="64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REVISE              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 in the most comfortable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the abstract/summary l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ften easier to start with your method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roduction | Background &amp; Context | Technical Detail | Results | Discussion &amp; 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1187280" y="1268280"/>
            <a:ext cx="6769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1255320" y="1222920"/>
            <a:ext cx="64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REVISE              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es it read well – is it coher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your facts correct? data, referen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ck for spelling and grammar mistak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Hand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187280" y="1268280"/>
            <a:ext cx="6769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1080000" y="1222920"/>
            <a:ext cx="68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REVI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… </a:t>
            </a: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for your portfolio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 in a sample of your writ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what it was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how you think you could improv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where you feel your writing weaknesses are and how you plan on improving your wri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be writing from before the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Use a lab notebook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 with a PEN not a penc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e and title your lab s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 simply and clearly so that someone else could repeat your experiment from your no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pare data table beforehand and complete during the experi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t a line through mistakes and make clear corrections, explain what changed and w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drawings where necess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rd your results carefully, make conclusions, offer suggestions and evaluate any err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j0237627[1]"/>
          <p:cNvPicPr/>
          <p:nvPr/>
        </p:nvPicPr>
        <p:blipFill>
          <a:blip r:embed="rId1"/>
          <a:stretch/>
        </p:blipFill>
        <p:spPr>
          <a:xfrm>
            <a:off x="1258920" y="476280"/>
            <a:ext cx="685800" cy="66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Good technical writing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itical (evalua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4716360" y="2349360"/>
            <a:ext cx="4032360" cy="331164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5580000" y="3789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Activit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6"/>
          <p:cNvSpPr/>
          <p:nvPr/>
        </p:nvSpPr>
        <p:spPr>
          <a:xfrm>
            <a:off x="6084720" y="3546360"/>
            <a:ext cx="3059280" cy="3311640"/>
          </a:xfrm>
          <a:prstGeom prst="irregularSeal2">
            <a:avLst/>
          </a:prstGeom>
          <a:solidFill>
            <a:srgbClr val="99cc00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objectiv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Don’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write in a newspaper sensational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mazing, fantastic, huge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ust state what happe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the passive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entrates on </a:t>
            </a:r>
            <a:r>
              <a:rPr b="0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what was do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not on WHO did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6732720" y="4941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Activit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clear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ntence structure: Join ideas in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321"/>
          <p:cNvGrpSpPr/>
          <p:nvPr/>
        </p:nvGrpSpPr>
        <p:grpSpPr>
          <a:xfrm>
            <a:off x="468360" y="2317680"/>
            <a:ext cx="7632720" cy="1546200"/>
            <a:chOff x="468360" y="2317680"/>
            <a:chExt cx="7632720" cy="1546200"/>
          </a:xfrm>
        </p:grpSpPr>
        <p:grpSp>
          <p:nvGrpSpPr>
            <p:cNvPr id="65" name="Group 313"/>
            <p:cNvGrpSpPr/>
            <p:nvPr/>
          </p:nvGrpSpPr>
          <p:grpSpPr>
            <a:xfrm>
              <a:off x="468360" y="2965320"/>
              <a:ext cx="7632720" cy="898560"/>
              <a:chOff x="468360" y="2965320"/>
              <a:chExt cx="7632720" cy="898560"/>
            </a:xfrm>
          </p:grpSpPr>
          <p:grpSp>
            <p:nvGrpSpPr>
              <p:cNvPr id="66" name="Group 311"/>
              <p:cNvGrpSpPr/>
              <p:nvPr/>
            </p:nvGrpSpPr>
            <p:grpSpPr>
              <a:xfrm>
                <a:off x="468360" y="3038400"/>
                <a:ext cx="2952360" cy="825480"/>
                <a:chOff x="468360" y="3038400"/>
                <a:chExt cx="2952360" cy="825480"/>
              </a:xfrm>
            </p:grpSpPr>
            <p:sp>
              <p:nvSpPr>
                <p:cNvPr id="67" name="Rectangle 295"/>
                <p:cNvSpPr/>
                <p:nvPr/>
              </p:nvSpPr>
              <p:spPr>
                <a:xfrm>
                  <a:off x="468360" y="3038400"/>
                  <a:ext cx="647640" cy="57636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Text Box 297"/>
                <p:cNvSpPr/>
                <p:nvPr/>
              </p:nvSpPr>
              <p:spPr>
                <a:xfrm>
                  <a:off x="1476360" y="3038400"/>
                  <a:ext cx="194436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e.g.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and, but  or 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Group 312"/>
              <p:cNvGrpSpPr/>
              <p:nvPr/>
            </p:nvGrpSpPr>
            <p:grpSpPr>
              <a:xfrm>
                <a:off x="4861080" y="2965320"/>
                <a:ext cx="3240000" cy="801720"/>
                <a:chOff x="4861080" y="2965320"/>
                <a:chExt cx="3240000" cy="801720"/>
              </a:xfrm>
            </p:grpSpPr>
            <p:sp>
              <p:nvSpPr>
                <p:cNvPr id="70" name="Line 299"/>
                <p:cNvSpPr/>
                <p:nvPr/>
              </p:nvSpPr>
              <p:spPr>
                <a:xfrm>
                  <a:off x="4861080" y="318132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Line 300"/>
                <p:cNvSpPr/>
                <p:nvPr/>
              </p:nvSpPr>
              <p:spPr>
                <a:xfrm>
                  <a:off x="6732720" y="318132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Text Box 301"/>
                <p:cNvSpPr/>
                <p:nvPr/>
              </p:nvSpPr>
              <p:spPr>
                <a:xfrm>
                  <a:off x="4861080" y="3398760"/>
                  <a:ext cx="3240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3300"/>
                      </a:solidFill>
                      <a:latin typeface="Arial"/>
                    </a:rPr>
                    <a:t>Coordinates two idea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Rectangle 302"/>
                <p:cNvSpPr/>
                <p:nvPr/>
              </p:nvSpPr>
              <p:spPr>
                <a:xfrm>
                  <a:off x="6229440" y="2965320"/>
                  <a:ext cx="432000" cy="36036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4" name="Text Box 317"/>
            <p:cNvSpPr/>
            <p:nvPr/>
          </p:nvSpPr>
          <p:spPr>
            <a:xfrm>
              <a:off x="5003640" y="2317680"/>
              <a:ext cx="10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Main cla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318"/>
            <p:cNvSpPr/>
            <p:nvPr/>
          </p:nvSpPr>
          <p:spPr>
            <a:xfrm>
              <a:off x="6804000" y="2317680"/>
              <a:ext cx="100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Main cla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323"/>
          <p:cNvGrpSpPr/>
          <p:nvPr/>
        </p:nvGrpSpPr>
        <p:grpSpPr>
          <a:xfrm>
            <a:off x="395280" y="4156200"/>
            <a:ext cx="8137440" cy="2153520"/>
            <a:chOff x="395280" y="4156200"/>
            <a:chExt cx="8137440" cy="2153520"/>
          </a:xfrm>
        </p:grpSpPr>
        <p:sp>
          <p:nvSpPr>
            <p:cNvPr id="77" name="AutoShape 296"/>
            <p:cNvSpPr/>
            <p:nvPr/>
          </p:nvSpPr>
          <p:spPr>
            <a:xfrm>
              <a:off x="395280" y="4724280"/>
              <a:ext cx="557280" cy="79236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Group 322"/>
            <p:cNvGrpSpPr/>
            <p:nvPr/>
          </p:nvGrpSpPr>
          <p:grpSpPr>
            <a:xfrm>
              <a:off x="1690560" y="4156200"/>
              <a:ext cx="6842160" cy="2153520"/>
              <a:chOff x="1690560" y="4156200"/>
              <a:chExt cx="6842160" cy="2153520"/>
            </a:xfrm>
          </p:grpSpPr>
          <p:grpSp>
            <p:nvGrpSpPr>
              <p:cNvPr id="79" name="Group 316"/>
              <p:cNvGrpSpPr/>
              <p:nvPr/>
            </p:nvGrpSpPr>
            <p:grpSpPr>
              <a:xfrm>
                <a:off x="1690560" y="4156200"/>
                <a:ext cx="6842160" cy="2138400"/>
                <a:chOff x="1690560" y="4156200"/>
                <a:chExt cx="6842160" cy="2138400"/>
              </a:xfrm>
            </p:grpSpPr>
            <p:sp>
              <p:nvSpPr>
                <p:cNvPr id="80" name="Text Box 298"/>
                <p:cNvSpPr/>
                <p:nvPr/>
              </p:nvSpPr>
              <p:spPr>
                <a:xfrm>
                  <a:off x="1690560" y="4371840"/>
                  <a:ext cx="2665440" cy="192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e.g.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because , if , since, although, unless, when 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whereas, whil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1" name="Group 310"/>
                <p:cNvGrpSpPr/>
                <p:nvPr/>
              </p:nvGrpSpPr>
              <p:grpSpPr>
                <a:xfrm>
                  <a:off x="4788000" y="4156200"/>
                  <a:ext cx="3744720" cy="1089000"/>
                  <a:chOff x="4788000" y="4156200"/>
                  <a:chExt cx="3744720" cy="1089000"/>
                </a:xfrm>
              </p:grpSpPr>
              <p:sp>
                <p:nvSpPr>
                  <p:cNvPr id="82" name="Line 303"/>
                  <p:cNvSpPr/>
                  <p:nvPr/>
                </p:nvSpPr>
                <p:spPr>
                  <a:xfrm>
                    <a:off x="4932000" y="4516560"/>
                    <a:ext cx="1295280" cy="0"/>
                  </a:xfrm>
                  <a:prstGeom prst="line">
                    <a:avLst/>
                  </a:prstGeom>
                  <a:ln w="22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AutoShape 304"/>
                  <p:cNvSpPr/>
                  <p:nvPr/>
                </p:nvSpPr>
                <p:spPr>
                  <a:xfrm>
                    <a:off x="6227640" y="4156200"/>
                    <a:ext cx="360000" cy="5047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ccffff"/>
                  </a:solidFill>
                  <a:ln w="936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Line 305"/>
                  <p:cNvSpPr/>
                  <p:nvPr/>
                </p:nvSpPr>
                <p:spPr>
                  <a:xfrm>
                    <a:off x="6803640" y="4660920"/>
                    <a:ext cx="1295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Text Box 306"/>
                  <p:cNvSpPr/>
                  <p:nvPr/>
                </p:nvSpPr>
                <p:spPr>
                  <a:xfrm>
                    <a:off x="4788000" y="4876920"/>
                    <a:ext cx="37447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800" spc="-1" strike="noStrike">
                        <a:solidFill>
                          <a:srgbClr val="ff3300"/>
                        </a:solidFill>
                        <a:latin typeface="Arial"/>
                      </a:rPr>
                      <a:t>Main idea with subordinate ide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6" name="Text Box 319"/>
              <p:cNvSpPr/>
              <p:nvPr/>
            </p:nvSpPr>
            <p:spPr>
              <a:xfrm>
                <a:off x="7093080" y="5667120"/>
                <a:ext cx="1439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800" spc="-1" strike="noStrike">
                    <a:solidFill>
                      <a:srgbClr val="000000"/>
                    </a:solidFill>
                    <a:latin typeface="Arial"/>
                  </a:rPr>
                  <a:t>Subordinate clau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" name="Line 320"/>
          <p:cNvSpPr/>
          <p:nvPr/>
        </p:nvSpPr>
        <p:spPr>
          <a:xfrm flipV="1">
            <a:off x="7885080" y="4365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5"/>
          <p:cNvSpPr/>
          <p:nvPr/>
        </p:nvSpPr>
        <p:spPr>
          <a:xfrm>
            <a:off x="395280" y="1052640"/>
            <a:ext cx="42480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sure you understand the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COORD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SUBORD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3997440" y="3645000"/>
            <a:ext cx="410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condary to the main 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idiary to the main 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4067280" y="256536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ks at an equal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611280" y="544500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Visual thesaurus:   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visuwords.com/?word=clause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Sentence structure problems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ng sentences with lots of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finished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3"/>
          <p:cNvGrpSpPr/>
          <p:nvPr/>
        </p:nvGrpSpPr>
        <p:grpSpPr>
          <a:xfrm>
            <a:off x="539640" y="2421000"/>
            <a:ext cx="6912000" cy="360360"/>
            <a:chOff x="539640" y="2421000"/>
            <a:chExt cx="6912000" cy="360360"/>
          </a:xfrm>
        </p:grpSpPr>
        <p:grpSp>
          <p:nvGrpSpPr>
            <p:cNvPr id="95" name="Group 7"/>
            <p:cNvGrpSpPr/>
            <p:nvPr/>
          </p:nvGrpSpPr>
          <p:grpSpPr>
            <a:xfrm>
              <a:off x="539640" y="2421000"/>
              <a:ext cx="3166920" cy="360360"/>
              <a:chOff x="539640" y="2421000"/>
              <a:chExt cx="3166920" cy="360360"/>
            </a:xfrm>
          </p:grpSpPr>
          <p:sp>
            <p:nvSpPr>
              <p:cNvPr id="96" name="Line 4"/>
              <p:cNvSpPr/>
              <p:nvPr/>
            </p:nvSpPr>
            <p:spPr>
              <a:xfrm>
                <a:off x="53964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5"/>
              <p:cNvSpPr/>
              <p:nvPr/>
            </p:nvSpPr>
            <p:spPr>
              <a:xfrm>
                <a:off x="241128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6"/>
              <p:cNvSpPr/>
              <p:nvPr/>
            </p:nvSpPr>
            <p:spPr>
              <a:xfrm>
                <a:off x="1908000" y="242100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8"/>
            <p:cNvGrpSpPr/>
            <p:nvPr/>
          </p:nvGrpSpPr>
          <p:grpSpPr>
            <a:xfrm>
              <a:off x="4284720" y="2421000"/>
              <a:ext cx="3166920" cy="360360"/>
              <a:chOff x="4284720" y="2421000"/>
              <a:chExt cx="3166920" cy="360360"/>
            </a:xfrm>
          </p:grpSpPr>
          <p:sp>
            <p:nvSpPr>
              <p:cNvPr id="100" name="Line 9"/>
              <p:cNvSpPr/>
              <p:nvPr/>
            </p:nvSpPr>
            <p:spPr>
              <a:xfrm>
                <a:off x="428472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10"/>
              <p:cNvSpPr/>
              <p:nvPr/>
            </p:nvSpPr>
            <p:spPr>
              <a:xfrm>
                <a:off x="615636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1"/>
              <p:cNvSpPr/>
              <p:nvPr/>
            </p:nvSpPr>
            <p:spPr>
              <a:xfrm>
                <a:off x="5653080" y="242100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Rectangle 12"/>
            <p:cNvSpPr/>
            <p:nvPr/>
          </p:nvSpPr>
          <p:spPr>
            <a:xfrm>
              <a:off x="3780000" y="242100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15"/>
          <p:cNvGrpSpPr/>
          <p:nvPr/>
        </p:nvGrpSpPr>
        <p:grpSpPr>
          <a:xfrm>
            <a:off x="539640" y="2852640"/>
            <a:ext cx="6912000" cy="360360"/>
            <a:chOff x="539640" y="2852640"/>
            <a:chExt cx="6912000" cy="360360"/>
          </a:xfrm>
        </p:grpSpPr>
        <p:grpSp>
          <p:nvGrpSpPr>
            <p:cNvPr id="105" name="Group 16"/>
            <p:cNvGrpSpPr/>
            <p:nvPr/>
          </p:nvGrpSpPr>
          <p:grpSpPr>
            <a:xfrm>
              <a:off x="539640" y="2852640"/>
              <a:ext cx="3166920" cy="360360"/>
              <a:chOff x="539640" y="2852640"/>
              <a:chExt cx="3166920" cy="360360"/>
            </a:xfrm>
          </p:grpSpPr>
          <p:sp>
            <p:nvSpPr>
              <p:cNvPr id="106" name="Line 17"/>
              <p:cNvSpPr/>
              <p:nvPr/>
            </p:nvSpPr>
            <p:spPr>
              <a:xfrm>
                <a:off x="53964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18"/>
              <p:cNvSpPr/>
              <p:nvPr/>
            </p:nvSpPr>
            <p:spPr>
              <a:xfrm>
                <a:off x="241128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9"/>
              <p:cNvSpPr/>
              <p:nvPr/>
            </p:nvSpPr>
            <p:spPr>
              <a:xfrm>
                <a:off x="1908000" y="285264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Group 20"/>
            <p:cNvGrpSpPr/>
            <p:nvPr/>
          </p:nvGrpSpPr>
          <p:grpSpPr>
            <a:xfrm>
              <a:off x="4284720" y="2852640"/>
              <a:ext cx="3166920" cy="360360"/>
              <a:chOff x="4284720" y="2852640"/>
              <a:chExt cx="3166920" cy="360360"/>
            </a:xfrm>
          </p:grpSpPr>
          <p:sp>
            <p:nvSpPr>
              <p:cNvPr id="110" name="Line 21"/>
              <p:cNvSpPr/>
              <p:nvPr/>
            </p:nvSpPr>
            <p:spPr>
              <a:xfrm>
                <a:off x="428472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22"/>
              <p:cNvSpPr/>
              <p:nvPr/>
            </p:nvSpPr>
            <p:spPr>
              <a:xfrm>
                <a:off x="615636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23"/>
              <p:cNvSpPr/>
              <p:nvPr/>
            </p:nvSpPr>
            <p:spPr>
              <a:xfrm>
                <a:off x="5653080" y="285264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Rectangle 24"/>
            <p:cNvSpPr/>
            <p:nvPr/>
          </p:nvSpPr>
          <p:spPr>
            <a:xfrm>
              <a:off x="3780000" y="285264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Rectangle 25"/>
          <p:cNvSpPr/>
          <p:nvPr/>
        </p:nvSpPr>
        <p:spPr>
          <a:xfrm>
            <a:off x="7524720" y="2421000"/>
            <a:ext cx="432000" cy="360360"/>
          </a:xfrm>
          <a:prstGeom prst="rect">
            <a:avLst/>
          </a:prstGeom>
          <a:solidFill>
            <a:srgbClr val="cc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6"/>
          <p:cNvSpPr/>
          <p:nvPr/>
        </p:nvSpPr>
        <p:spPr>
          <a:xfrm>
            <a:off x="4140360" y="5950080"/>
            <a:ext cx="12952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7"/>
          <p:cNvSpPr/>
          <p:nvPr/>
        </p:nvSpPr>
        <p:spPr>
          <a:xfrm>
            <a:off x="900000" y="4797360"/>
            <a:ext cx="360360" cy="504720"/>
          </a:xfrm>
          <a:prstGeom prst="triangle">
            <a:avLst>
              <a:gd name="adj" fmla="val 50000"/>
            </a:avLst>
          </a:prstGeom>
          <a:solidFill>
            <a:srgbClr val="ccffff"/>
          </a:solidFill>
          <a:ln w="22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31"/>
          <p:cNvGrpSpPr/>
          <p:nvPr/>
        </p:nvGrpSpPr>
        <p:grpSpPr>
          <a:xfrm>
            <a:off x="1476360" y="5084640"/>
            <a:ext cx="3311640" cy="360360"/>
            <a:chOff x="1476360" y="5084640"/>
            <a:chExt cx="3311640" cy="360360"/>
          </a:xfrm>
        </p:grpSpPr>
        <p:sp>
          <p:nvSpPr>
            <p:cNvPr id="118" name="Line 28"/>
            <p:cNvSpPr/>
            <p:nvPr/>
          </p:nvSpPr>
          <p:spPr>
            <a:xfrm>
              <a:off x="1476360" y="5300640"/>
              <a:ext cx="129528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9"/>
            <p:cNvSpPr/>
            <p:nvPr/>
          </p:nvSpPr>
          <p:spPr>
            <a:xfrm>
              <a:off x="2843280" y="508464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30"/>
            <p:cNvSpPr/>
            <p:nvPr/>
          </p:nvSpPr>
          <p:spPr>
            <a:xfrm>
              <a:off x="3492360" y="5300640"/>
              <a:ext cx="129564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32"/>
          <p:cNvGrpSpPr/>
          <p:nvPr/>
        </p:nvGrpSpPr>
        <p:grpSpPr>
          <a:xfrm>
            <a:off x="5508720" y="5084640"/>
            <a:ext cx="3310920" cy="360360"/>
            <a:chOff x="5508720" y="5084640"/>
            <a:chExt cx="3310920" cy="360360"/>
          </a:xfrm>
        </p:grpSpPr>
        <p:sp>
          <p:nvSpPr>
            <p:cNvPr id="122" name="Line 33"/>
            <p:cNvSpPr/>
            <p:nvPr/>
          </p:nvSpPr>
          <p:spPr>
            <a:xfrm>
              <a:off x="5508720" y="5300640"/>
              <a:ext cx="129492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34"/>
            <p:cNvSpPr/>
            <p:nvPr/>
          </p:nvSpPr>
          <p:spPr>
            <a:xfrm>
              <a:off x="6875280" y="5084640"/>
              <a:ext cx="43128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5"/>
            <p:cNvSpPr/>
            <p:nvPr/>
          </p:nvSpPr>
          <p:spPr>
            <a:xfrm>
              <a:off x="7524360" y="5300640"/>
              <a:ext cx="129528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Rectangle 36"/>
          <p:cNvSpPr/>
          <p:nvPr/>
        </p:nvSpPr>
        <p:spPr>
          <a:xfrm>
            <a:off x="4932360" y="5013360"/>
            <a:ext cx="431640" cy="360360"/>
          </a:xfrm>
          <a:prstGeom prst="rect">
            <a:avLst/>
          </a:prstGeom>
          <a:solidFill>
            <a:srgbClr val="cc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7"/>
          <p:cNvSpPr/>
          <p:nvPr/>
        </p:nvSpPr>
        <p:spPr>
          <a:xfrm>
            <a:off x="826920" y="573408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Main idea (clause) mi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8"/>
          <p:cNvSpPr/>
          <p:nvPr/>
        </p:nvSpPr>
        <p:spPr>
          <a:xfrm>
            <a:off x="6588000" y="6237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ndout sectio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9"/>
          <p:cNvSpPr/>
          <p:nvPr/>
        </p:nvSpPr>
        <p:spPr>
          <a:xfrm rot="5400000">
            <a:off x="7558560" y="2601000"/>
            <a:ext cx="50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4"/>
          <p:cNvSpPr/>
          <p:nvPr/>
        </p:nvSpPr>
        <p:spPr>
          <a:xfrm>
            <a:off x="971640" y="141300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is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27"/>
          <p:cNvGrpSpPr/>
          <p:nvPr/>
        </p:nvGrpSpPr>
        <p:grpSpPr>
          <a:xfrm>
            <a:off x="1116000" y="2205000"/>
            <a:ext cx="5472000" cy="863640"/>
            <a:chOff x="1116000" y="2205000"/>
            <a:chExt cx="5472000" cy="863640"/>
          </a:xfrm>
        </p:grpSpPr>
        <p:sp>
          <p:nvSpPr>
            <p:cNvPr id="131" name="AutoShape 20"/>
            <p:cNvSpPr/>
            <p:nvPr/>
          </p:nvSpPr>
          <p:spPr>
            <a:xfrm>
              <a:off x="1116000" y="2421000"/>
              <a:ext cx="431640" cy="64764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1"/>
            <p:cNvSpPr/>
            <p:nvPr/>
          </p:nvSpPr>
          <p:spPr>
            <a:xfrm>
              <a:off x="1619280" y="2781360"/>
              <a:ext cx="107964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2"/>
            <p:cNvSpPr/>
            <p:nvPr/>
          </p:nvSpPr>
          <p:spPr>
            <a:xfrm>
              <a:off x="2700360" y="2565360"/>
              <a:ext cx="647640" cy="431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3"/>
            <p:cNvSpPr/>
            <p:nvPr/>
          </p:nvSpPr>
          <p:spPr>
            <a:xfrm>
              <a:off x="3419640" y="2781360"/>
              <a:ext cx="107928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24"/>
            <p:cNvSpPr/>
            <p:nvPr/>
          </p:nvSpPr>
          <p:spPr>
            <a:xfrm>
              <a:off x="4427640" y="2492280"/>
              <a:ext cx="21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>
              <a:off x="4645080" y="2565360"/>
              <a:ext cx="165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26"/>
            <p:cNvSpPr/>
            <p:nvPr/>
          </p:nvSpPr>
          <p:spPr>
            <a:xfrm>
              <a:off x="6372360" y="2205000"/>
              <a:ext cx="21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Text Box 28"/>
          <p:cNvSpPr/>
          <p:nvPr/>
        </p:nvSpPr>
        <p:spPr>
          <a:xfrm>
            <a:off x="826920" y="3573360"/>
            <a:ext cx="69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Althoug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material had the correct heat resistant properties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a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strength needed,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t was not stable at temperatures below – 15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clear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paragraph develops one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prox 6 sentence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sentence each para tells reader what para is ab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your work out loud (or a frie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your argument fl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 your ‘story’ cle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and edit, edit again, edit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Know your grammatical sins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problems below make it difficult to understand your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ral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ulty parallelism 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difficult to proc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ntence fragments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unfinished ide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un on sentences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long complex senten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un/verb agre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5580000" y="566100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ff"/>
                </a:solidFill>
                <a:latin typeface="Arial"/>
              </a:rPr>
              <a:t>See handout – section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7:42Z</dcterms:modified>
  <cp:revision>106</cp:revision>
  <dc:subject/>
  <dc:title>Getting started in HE</dc:title>
</cp:coreProperties>
</file>